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19A-61EF-40A7-B6F7-A971F350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EDE-24F5-4831-8C20-AF5CCE7D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459-7FBA-4D65-9D1F-835AF055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E3F-32C9-44FB-AE75-D6F383D0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4B7-57A7-4759-A9B7-2C88A814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261-B1BD-4CDC-9C78-CAF95920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A9D-34F0-4B48-A018-51377EBC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85C-9DCC-4466-9391-6975F834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58F-4921-46A5-B5E2-79BD58C6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95B-38C7-4740-A17B-73F43003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F9B-114F-41FA-8221-BAB609F4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637-056C-4C34-83F6-95FE2710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958C-23AC-4054-B425-5F3ACC70D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7.png"/><Relationship Id="rId6" Type="http://schemas.openxmlformats.org/officeDocument/2006/relationships/image" Target="../media/image6.jpeg"/><Relationship Id="rId7" Type="http://schemas.openxmlformats.org/officeDocument/2006/relationships/image" Target="../media/image5.pn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7.png"/><Relationship Id="rId6" Type="http://schemas.openxmlformats.org/officeDocument/2006/relationships/image" Target="../media/image6.jpeg"/><Relationship Id="rId7" Type="http://schemas.openxmlformats.org/officeDocument/2006/relationships/image" Target="../media/image5.pn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7.png"/><Relationship Id="rId6" Type="http://schemas.openxmlformats.org/officeDocument/2006/relationships/image" Target="../media/image6.jpeg"/><Relationship Id="rId7" Type="http://schemas.openxmlformats.org/officeDocument/2006/relationships/image" Target="../media/image5.pn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60280"/>
            <a:ext cx="3527280" cy="490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av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 co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a 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a bicic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 cam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 t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 t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 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a furgon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333360"/>
            <a:ext cx="3527280" cy="490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otor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l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t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underground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5300640"/>
            <a:ext cx="6767640" cy="119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tch the English and Spanish forms of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la matricul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82472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la rueda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4005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la direcciona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6912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a defen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41655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a puer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086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800000" cy="126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2159280" cy="1315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016360" cy="12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877080" y="2708280"/>
            <a:ext cx="1873080" cy="149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643280" y="2708280"/>
            <a:ext cx="2089440" cy="1390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611280" y="2492280"/>
            <a:ext cx="1728720" cy="1706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6732720" y="907920"/>
            <a:ext cx="2087280" cy="140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4284720" y="981000"/>
            <a:ext cx="2232000" cy="1306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2484360" y="765000"/>
            <a:ext cx="1656000" cy="164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468360" y="836640"/>
            <a:ext cx="1871640" cy="140328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411280" y="2492280"/>
            <a:ext cx="2089440" cy="1606680"/>
            <a:chOff x="2411280" y="2492280"/>
            <a:chExt cx="2089440" cy="1606680"/>
          </a:xfrm>
        </p:grpSpPr>
        <p:pic>
          <p:nvPicPr>
            <p:cNvPr id="83" name="" descr=""/>
            <p:cNvPicPr/>
            <p:nvPr/>
          </p:nvPicPr>
          <p:blipFill>
            <a:blip r:embed="rId12"/>
            <a:stretch/>
          </p:blipFill>
          <p:spPr>
            <a:xfrm>
              <a:off x="2411280" y="2708280"/>
              <a:ext cx="20894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411280" y="2492280"/>
              <a:ext cx="432000" cy="432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549360"/>
            <a:ext cx="777708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 u="sng">
                <a:solidFill>
                  <a:srgbClr val="000000"/>
                </a:solidFill>
                <a:uFillTx/>
                <a:latin typeface="Arial"/>
              </a:rPr>
              <a:t>As... pos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Lo más+ adjective / adverb +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lo más pronto posible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as soon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lo más peligroso 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as dangerous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lo más pequeño 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as small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800000" cy="126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2159280" cy="131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016360" cy="126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877080" y="2708280"/>
            <a:ext cx="1873080" cy="149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643280" y="2708280"/>
            <a:ext cx="2089440" cy="1390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611280" y="2492280"/>
            <a:ext cx="1728720" cy="1706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6732720" y="907920"/>
            <a:ext cx="2087280" cy="140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4284720" y="981000"/>
            <a:ext cx="2232000" cy="130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2484360" y="765000"/>
            <a:ext cx="1656000" cy="164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468360" y="836640"/>
            <a:ext cx="1871640" cy="14032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411280" y="2492280"/>
            <a:ext cx="2089440" cy="1606680"/>
            <a:chOff x="2411280" y="2492280"/>
            <a:chExt cx="2089440" cy="1606680"/>
          </a:xfrm>
        </p:grpSpPr>
        <p:pic>
          <p:nvPicPr>
            <p:cNvPr id="100" name="" descr=""/>
            <p:cNvPicPr/>
            <p:nvPr/>
          </p:nvPicPr>
          <p:blipFill>
            <a:blip r:embed="rId12"/>
            <a:stretch/>
          </p:blipFill>
          <p:spPr>
            <a:xfrm>
              <a:off x="2411280" y="2708280"/>
              <a:ext cx="20894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411280" y="2492280"/>
              <a:ext cx="432000" cy="432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5877000"/>
            <a:ext cx="1008000" cy="706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1224000" cy="74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5300640"/>
            <a:ext cx="1079640" cy="67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42920" y="436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788000" y="5994360"/>
            <a:ext cx="1079280" cy="863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4859280" y="3357720"/>
            <a:ext cx="1008000" cy="671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042920" y="3213000"/>
            <a:ext cx="865080" cy="854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4788000" y="1197000"/>
            <a:ext cx="1008000" cy="677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4859280" y="2421000"/>
            <a:ext cx="1079640" cy="63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1042920" y="2276640"/>
            <a:ext cx="863640" cy="855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971640" y="1125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530064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602136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602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530064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684360" y="5060880"/>
            <a:ext cx="1152360" cy="766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395280" y="5180040"/>
            <a:ext cx="527040" cy="26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557360"/>
            <a:ext cx="84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forms of transpor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12 car par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say as… as possibl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complete a quick conversation asking for hel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To play brain gy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el vola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0562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24000" y="4724280"/>
            <a:ext cx="561672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Arial"/>
              </a:rPr>
              <a:t>el espejo retrovisor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40323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24000" y="4724280"/>
            <a:ext cx="475308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Arial"/>
              </a:rPr>
              <a:t>el espejo lateral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715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el parabris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0958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el tapacub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8289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el cof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11280" y="550800"/>
            <a:ext cx="4753080" cy="3548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1187280" y="836280"/>
            <a:ext cx="2305080" cy="1152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el fa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1:24:46Z</dcterms:created>
  <dc:creator>Owner1</dc:creator>
  <dc:description/>
  <dc:language>en-US</dc:language>
  <cp:lastModifiedBy>Owner1</cp:lastModifiedBy>
  <dcterms:modified xsi:type="dcterms:W3CDTF">2008-11-14T16:24:48Z</dcterms:modified>
  <cp:revision>6</cp:revision>
  <dc:subject/>
  <dc:title>Slide 1</dc:title>
</cp:coreProperties>
</file>